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7CC1-F808-4BF1-AA37-F195B820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C969-F080-4F76-8B50-B5A53FD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1E26-FF5D-4D51-9D17-E4296D4B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D6D5-401A-4B2C-A3DD-30A57387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D9DB-9249-47C4-A9C6-D6A36224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28A-1B50-49D6-AAD4-3ADBF98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A66-3CA2-49F0-8FDF-F340AD5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3E6D-50F7-4DDF-B372-BD0FDC6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593-7852-46DD-88F3-76156E8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DD1-F10F-4C77-9A2B-B75C2F20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BD7-C848-4B02-A678-155C7ED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E1F4-4921-4DF8-93BD-51E94DE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1D1A-5DCA-4423-8787-2E97AC0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1ECB-4512-4F7C-A185-CC2B52F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66C-BB51-42DD-89FF-A04A6F18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E97-318C-479A-BC6F-E48E1529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FAE8-2031-4E45-BB7A-19418C26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B7FE-3432-40DE-AAF7-BA2E3926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D1E0-83F3-441C-A04B-446D5D06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2ACB-F40D-4885-989E-CEA1B4A0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4191-5285-49F0-808B-72A4167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7BDF-A732-4C96-A336-AFBCD61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8E06-517C-40EF-8469-49254FD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5872-9CDC-46A4-8418-E36A55DF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58E5-EFA9-4580-9E73-616765BE0D50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3C3-17FB-4DF6-8465-375C12D95335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maxprolink.com/popups/tvexplorer_demo1.htm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promaxprolink.com/popups/tvexplorer_demo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VB-T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ÅLETEKNIK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343640" cy="52372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arrier (bærebøl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Noise (stø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N(dB) = 10 x log (Effekt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 </a:t>
            </a: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/ Effekt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tø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r lavt C/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S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hannel Status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F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Antall bærebølger ”mistet” / ant. bb. se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Bra CSI&lt; 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dfdef6"/>
                </a:solidFill>
                <a:latin typeface="Arial"/>
              </a:rPr>
              <a:t>Video fra Proma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romaxprolink.com/popups/tvexplorer_demo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http://www.promaxprolink.com/popups/tvexplorer_demo2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VÅMÅLING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464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NNEINNSTI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.- OG MAKS.NIV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816360" cy="2792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79280" y="1557360"/>
            <a:ext cx="4392720" cy="489600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1557360"/>
            <a:ext cx="4392360" cy="489600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4932360" y="2708280"/>
            <a:ext cx="34750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våmåling i DVB-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På digital mux, f.eks kanal 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7472520" cy="29890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268360" y="4508640"/>
            <a:ext cx="863640" cy="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56360" y="3933720"/>
            <a:ext cx="863640" cy="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27640" y="3141720"/>
            <a:ext cx="3960720" cy="3024000"/>
          </a:xfrm>
          <a:prstGeom prst="rect">
            <a:avLst/>
          </a:prstGeom>
          <a:solidFill>
            <a:srgbClr val="5252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3280" y="3573360"/>
            <a:ext cx="3529080" cy="2303640"/>
          </a:xfrm>
          <a:prstGeom prst="rect">
            <a:avLst/>
          </a:prstGeom>
          <a:noFill/>
          <a:ln w="9360">
            <a:solidFill>
              <a:srgbClr val="525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kten jevnt fordelt             over hele båndbredden på 8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7fc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74dBuV m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7fc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48dBuV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ektru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Instrumentet i spektrumsti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Velg span til du ser alle mux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Still antenna til laveste mux når sitt maksnivå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Jevnheten er viktigere enn maksnivå på alle mux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Bit Error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Forholdet mellom sendte 0-er og 1-er og mottatte feilaktige 0-er og 1-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356000" y="1700280"/>
          <a:ext cx="4537080" cy="399564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151272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end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e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all feil på mottat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e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ef6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E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E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356000" y="5734080"/>
          <a:ext cx="4537080" cy="576360"/>
        </p:xfrm>
        <a:graphic>
          <a:graphicData uri="http://schemas.openxmlformats.org/drawingml/2006/table">
            <a:tbl>
              <a:tblPr/>
              <a:tblGrid>
                <a:gridCol w="1512360"/>
                <a:gridCol w="1512000"/>
                <a:gridCol w="1512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E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dfdef6"/>
                </a:solidFill>
                <a:latin typeface="Arial"/>
              </a:rPr>
              <a:t>Viterbi og Reed-Solom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hannel 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58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ålt etter første feilkorreksjon (Viterbi) og før andre feilkorreksjon (Reed- Solo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QEF (Quasi Error Free) -feilfritt bil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QEF = VBER &gt; 2E-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Helst E-7 til E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odulation Error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ER for DVB-T skal være &gt; 26 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664848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0:23:38Z</dcterms:created>
  <dc:creator>ankeradmin</dc:creator>
  <dc:description/>
  <dc:language>en-US</dc:language>
  <cp:lastModifiedBy>tagro</cp:lastModifiedBy>
  <dcterms:modified xsi:type="dcterms:W3CDTF">2009-03-31T09:37:51Z</dcterms:modified>
  <cp:revision>33</cp:revision>
  <dc:subject/>
  <dc:title>DVB-T </dc:title>
</cp:coreProperties>
</file>