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F0E4-C832-472A-8FAB-DFD839A46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3061-AFC9-4486-83A1-1D8180FA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7B84-34C3-415C-854A-90BD8DBAB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9A4E-DADC-4A5D-8484-C7669594B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8F12-C5D1-4723-B6F9-DF26AA711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DCE4-3F1D-4FA9-981D-26DD09D6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0726-FBB0-47A9-8D0D-67BB8F9C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3003-DE74-4F2F-BAA5-04DA312E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9031-1C2F-43BD-96E2-F9F87DE1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4969D-AF5E-4F90-9094-48E77537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BE37-9EEB-49A9-B3EB-7EC8E951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2FCD-06C4-40BC-A510-0C2DA6BD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CC55-39F6-4C77-8E14-64379477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3D747-6770-4A5F-AFDE-2FF21697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86CC-1D0A-450F-9F0D-08195179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19C5-0534-4019-8770-2C5C9C2DF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5D2F-9F35-48E3-B667-90605D9CF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762D-BE3A-4E9E-A7B2-45D6C99B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C428-37F0-4B52-A680-EF55C250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7697-D3E7-4CFC-8018-3F33D9FD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E488-316D-4F99-B926-5869BE72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1EA4-19AB-45C5-B087-F9B1CBD1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D1EB-F146-4E62-9F87-DA951DFA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1006-13DC-4C43-B6C8-F4EAA9A2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B532-3512-45CF-A461-26FC9719D67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65C5-2E34-42FD-9CD6-714F50134DC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Arial"/>
              </a:rPr>
              <a:t>FREKVENSBÅNDEN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32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RINGKASTNINGSSIGNAL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ffcc66"/>
                </a:solidFill>
                <a:latin typeface="Arial"/>
              </a:rPr>
              <a:t>Frekvens-spekteret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08000" y="1628640"/>
            <a:ext cx="8677080" cy="41817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435640" y="1989000"/>
            <a:ext cx="1008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DVB-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372360" y="1989000"/>
            <a:ext cx="1008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DVB-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ffcc66"/>
                </a:solidFill>
                <a:latin typeface="Arial"/>
              </a:rPr>
              <a:t>VHF</a:t>
            </a:r>
            <a:r>
              <a:rPr b="0" lang="nb-NO" sz="40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000"/>
            </a:br>
            <a:r>
              <a:rPr b="0" lang="nb-NO" sz="4000" spc="-1" strike="noStrike">
                <a:solidFill>
                  <a:srgbClr val="ffcc66"/>
                </a:solidFill>
                <a:latin typeface="Arial"/>
              </a:rPr>
              <a:t>(Very High Frequency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ÅND I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7-68MH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ÅND II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87,5-108MHz (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FM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ÅND III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74-230MH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ffcc66"/>
                </a:solidFill>
                <a:latin typeface="Arial"/>
              </a:rPr>
              <a:t>UHF</a:t>
            </a:r>
            <a:r>
              <a:rPr b="0" lang="nb-NO" sz="40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000"/>
            </a:br>
            <a:r>
              <a:rPr b="0" lang="nb-NO" sz="4000" spc="-1" strike="noStrike">
                <a:solidFill>
                  <a:srgbClr val="ffcc66"/>
                </a:solidFill>
                <a:latin typeface="Arial"/>
              </a:rPr>
              <a:t>(Ultra High Frequency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ÅND IV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70-606MHz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kanal 21-37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ÅND V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606-862MHz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kanal 38-69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analbredde er 8 MH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anal 21 har da 474MHZ som senterfrekven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3573360"/>
            <a:ext cx="856908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ffcc66"/>
                </a:solidFill>
                <a:latin typeface="Arial"/>
              </a:rPr>
              <a:t>SHF</a:t>
            </a:r>
            <a:r>
              <a:rPr b="0" lang="nb-NO" sz="40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000"/>
            </a:br>
            <a:r>
              <a:rPr b="0" lang="nb-NO" sz="4000" spc="-1" strike="noStrike">
                <a:solidFill>
                  <a:srgbClr val="ffcc66"/>
                </a:solidFill>
                <a:latin typeface="Arial"/>
              </a:rPr>
              <a:t>(Super High Frequency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Verdana"/>
              </a:rPr>
              <a:t>C-BÅNDET</a:t>
            </a:r>
            <a:r>
              <a:rPr b="0" lang="nb-NO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b-NO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b-NO" sz="3200" spc="-1" strike="noStrike">
                <a:solidFill>
                  <a:srgbClr val="ffffff"/>
                </a:solidFill>
                <a:latin typeface="Verdana"/>
              </a:rPr>
              <a:t>3,70 - 4,20GH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Verdana"/>
              </a:rPr>
              <a:t>Ku-BÅNDET</a:t>
            </a:r>
            <a:r>
              <a:rPr b="0" lang="nb-NO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b-NO" sz="3200" spc="-1" strike="noStrike">
                <a:solidFill>
                  <a:srgbClr val="ffffff"/>
                </a:solidFill>
                <a:latin typeface="Verdana"/>
              </a:rPr>
              <a:t>10,70-12,75GH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68360" y="3666960"/>
            <a:ext cx="762012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0:33:56Z</dcterms:created>
  <dc:creator>tagro</dc:creator>
  <dc:description/>
  <dc:language>en-US</dc:language>
  <cp:lastModifiedBy>tagro</cp:lastModifiedBy>
  <dcterms:modified xsi:type="dcterms:W3CDTF">2009-03-27T10:16:34Z</dcterms:modified>
  <cp:revision>17</cp:revision>
  <dc:subject/>
  <dc:title>Lysbilde 1</dc:title>
</cp:coreProperties>
</file>