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3F1-3DCD-405D-9F92-AF8360F9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232-1D86-4238-88D9-264A288B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E99-8F6C-4A68-9CB0-25F29467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404-D87E-4CBB-ADE5-207CD77D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57D-9029-49CF-BDE0-C9EE8909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250-F534-445F-B6E0-5947A7E4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C20B-ED1D-4C7F-91E6-2AFFB112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DFD-7C26-4105-BBD5-788A0EC6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2BBB-080A-4583-B529-BE05871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306-1F1A-442D-A484-B0EF8052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EE99-638E-4343-8640-8C70886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13D-51DE-4E6C-A9B0-691D262C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99B-42F3-49A0-B6E2-5FEB9FB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843A-91A8-4453-B838-79C7528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9388-1971-4080-9B83-267049AC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C77-CE69-4CE0-81E4-454EEF2C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A803-5E76-4AA3-85C5-E93CE6A9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EDE-81C6-42DC-96A0-767C816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913-B35D-49DD-8303-6A9879A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E84-D3A3-4422-A966-8E879668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BE8-A32F-4F4F-A29C-BBB1F58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337-85CB-4379-BADC-7A9262C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0D3-897A-415B-97D8-5C3E000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71F-E675-4CE0-872F-25296DF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5748-9CFE-4ED4-86B6-A45CB5B6CCA1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403C-F4BA-4BD2-B551-33006441616D}" type="slidenum">
              <a:rPr b="0" lang="nb-N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abl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083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26920" y="1619280"/>
            <a:ext cx="72741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ttet 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26920" y="1327320"/>
            <a:ext cx="75614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047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ttet og folie samm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e og flettet samm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 i ny og brukt k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41600" y="1981080"/>
            <a:ext cx="5859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Ytterkap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34544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Floo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996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gring av kabl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2580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ty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1146240"/>
            <a:ext cx="81360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legg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8497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ty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55640" y="1265400"/>
            <a:ext cx="77770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demping og frekve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1466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demp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79280" y="2178000"/>
            <a:ext cx="8785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er i en koaksialk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823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terled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596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Skinn-effek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86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terled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3:58:04Z</dcterms:created>
  <dc:creator>ankeradmin</dc:creator>
  <dc:description/>
  <dc:language>en-US</dc:language>
  <cp:lastModifiedBy>ankeradmin</cp:lastModifiedBy>
  <dcterms:modified xsi:type="dcterms:W3CDTF">2008-02-07T20:44:47Z</dcterms:modified>
  <cp:revision>17</cp:revision>
  <dc:subject/>
  <dc:title>Kabler</dc:title>
</cp:coreProperties>
</file>