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F6A-6B3B-4C10-A82A-70F13004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ED2-0ACA-4DA5-86D1-63BF5C33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5CD-C62F-4DE2-A703-B5ACADCB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1C7-5067-4DD8-8C80-32A9BDB7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CA6D-E129-46C7-A38D-BC3AE78D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602A-6C59-4474-BF46-E1B94819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A273-EBC5-42AC-A162-CB107FBB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85A1-74EF-42A5-94B3-4E727617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5AA6-46EF-41E1-90CE-9DA817FF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B600-3265-4A44-AC5B-C733CD10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735C-8077-459A-BD92-AF91326F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A39-06DF-41BF-942F-390CD384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58AE-D4D9-4A3C-AA26-234DA6B7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460B-B3AC-4F44-9956-B32EACB6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1896-D1ED-46AE-8DEA-D2010D86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2E09-061D-45FB-AFBF-AE70DAF8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D1A9-3A73-46E8-9184-6D13B95A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D82-AFE1-4A57-B1EC-8503A035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FF2-1AC2-4316-97FC-4A0F06CA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86C-8434-42E4-8E50-779033E8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3CA-8D57-44E2-88C6-7786A857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D559-B7D7-4B18-AB94-1F1CA7F4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D69-5EB1-4170-B808-DEEF855C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6DF0-BFBB-49FA-9B38-CAF2104E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F729-0620-4807-BF24-5B5EDB0F7547}" type="slidenum">
              <a:rPr b="0" lang="nb-N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15E0-C24A-4E26-AE84-9035D0747B8E}" type="slidenum">
              <a:rPr b="0" lang="nb-NO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Kabl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kjerm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0837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kjerm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826920" y="1619280"/>
            <a:ext cx="72741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ettet skjerm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826920" y="1327320"/>
            <a:ext cx="756144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li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70470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ettet og folie samm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99308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lie og flettet samm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77528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kjerming i ny og brukt kab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641600" y="1981080"/>
            <a:ext cx="58593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cc"/>
                </a:solidFill>
                <a:latin typeface="Tahoma"/>
              </a:rPr>
              <a:t>Ytterkapp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34544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cc"/>
                </a:solidFill>
                <a:latin typeface="Tahoma"/>
              </a:rPr>
              <a:t>Floo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49960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gring av kabl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2580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abeltyp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39640" y="1146240"/>
            <a:ext cx="813600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rlegg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95280" y="1463760"/>
            <a:ext cx="84978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abeltyp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755640" y="1265400"/>
            <a:ext cx="777708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abeldemping og frekve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14664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abeldemp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79280" y="2178000"/>
            <a:ext cx="8785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omponenter i en koaksialkab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82300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nterlede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45964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cc"/>
                </a:solidFill>
                <a:latin typeface="Tahoma"/>
              </a:rPr>
              <a:t>Skinn-effek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6866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nterlede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63272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3:58:04Z</dcterms:created>
  <dc:creator>ankeradmin</dc:creator>
  <dc:description/>
  <dc:language>en-US</dc:language>
  <cp:lastModifiedBy>ankeradmin</cp:lastModifiedBy>
  <dcterms:modified xsi:type="dcterms:W3CDTF">2008-02-07T20:44:47Z</dcterms:modified>
  <cp:revision>17</cp:revision>
  <dc:subject/>
  <dc:title>Kabler</dc:title>
</cp:coreProperties>
</file>