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49B4-D217-4060-9AE8-46D004E8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F672-7577-4623-AC52-8764B80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91E2-EE57-480B-81BA-2289B073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911E-F774-4C3A-9348-579ADD29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6620-67E6-4E9A-A206-6071263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66F-1087-44DF-BADF-BB09C54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5D8-FB72-4C12-83E4-EE8CA57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3AC-EC88-48EF-A972-AEA20A1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304C-B6CA-4B88-BDD7-FB2A956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71C-FC43-49AA-A20B-74DD13D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6577-B951-446D-809F-FB1DB0E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4C02-844C-4D09-B093-5D8EA8ED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7F1B-7003-45EB-8775-623A8B0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D05-6A5A-4ABB-91D6-2C992A2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64CF-7D76-4A5D-BF46-B92A55AB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B73C-08F2-4E76-919B-7253A194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7EB3-8875-49BC-B052-57256468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C7D9-7129-4034-93DF-B88B6BD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3788-F248-416A-8FD6-A6B5430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925C-0493-49C3-B2A1-9A5BF00E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F301-79E6-4747-BFDA-8BD77CE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081E-6BA2-4F46-B587-3B46CED7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6717-A3AA-42AC-831E-A60A38D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BF31-221F-4ABF-A254-E5F7010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0220-1F04-4C83-A314-AEF0A93F2ABE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32C-B954-4D8A-8BA5-06655D4980CB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Konnektor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valit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501920"/>
            <a:ext cx="7694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-konnektor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802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dre ty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596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dre ty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626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ktøy til konnekte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31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visolering av F6 og F1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67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e5e5ff"/>
                </a:solidFill>
                <a:latin typeface="Garamond"/>
              </a:rPr>
              <a:t>Fukt-tet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71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9:58:07Z</dcterms:created>
  <dc:creator>ankeradmin</dc:creator>
  <dc:description/>
  <dc:language>en-US</dc:language>
  <cp:lastModifiedBy>ankeradmin</cp:lastModifiedBy>
  <dcterms:modified xsi:type="dcterms:W3CDTF">2008-02-07T20:41:55Z</dcterms:modified>
  <cp:revision>6</cp:revision>
  <dc:subject/>
  <dc:title>Konnektorer</dc:title>
</cp:coreProperties>
</file>