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6A8B-172E-4F48-BFB5-3AFB5697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55ED-A98D-474F-83C1-884A870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80C7-B2A2-4B06-8FAD-9DAE9D76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86DE-B4D5-493F-BC8B-0D48D904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1D87-7DCA-4A5C-82D2-97460058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A8A0-A03B-4DCC-9749-1FD9A9F3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2279-1418-405D-8E71-8DD7ACE1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7F5C-C4E2-4088-A99B-5BBD79BA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CEE8-3495-4AAC-A613-9E591B12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FE3D-0190-40F8-A22D-FACD2443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973F-9FC7-4F69-BAAF-45044B05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1ED3-A721-4057-ACB7-ABF3FD25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B3B0-FC1B-4E9E-9DBA-CF7F638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2405-332B-490D-8E95-615E0D57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9688-FA48-4F73-876B-8B94A63E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FAEC-7FAD-4D11-B3FD-8824AEE5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9FAC-1B5F-45CD-9D1E-E2B83EEF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55B9-1A25-4CFD-9F80-26BCC3FC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A505-5478-48AF-96B5-7B9084E0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5349-9F93-4497-A459-D1CC151C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1EEF-0F0D-4FCF-AC2C-144A1F35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8589-B66E-4790-912F-8128E21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9E27-DBF9-4E04-8296-46FA2BDE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E496-F948-4E8E-80C1-52FD5635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F8D2-2674-4745-AD0B-9A751AEB2E1A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0CD6-E4F0-41D7-A07F-D78CAE83A66D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Konnektor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valit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501920"/>
            <a:ext cx="769464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-konnektor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802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dre ty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596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dre ty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626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ktøy til konnekter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310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visolering av F6 og F1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677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e5e5ff"/>
                </a:solidFill>
                <a:latin typeface="Garamond"/>
              </a:rPr>
              <a:t>Fukt-tet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371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9:58:07Z</dcterms:created>
  <dc:creator>ankeradmin</dc:creator>
  <dc:description/>
  <dc:language>en-US</dc:language>
  <cp:lastModifiedBy>ankeradmin</cp:lastModifiedBy>
  <dcterms:modified xsi:type="dcterms:W3CDTF">2008-02-07T20:41:55Z</dcterms:modified>
  <cp:revision>6</cp:revision>
  <dc:subject/>
  <dc:title>Konnektorer</dc:title>
</cp:coreProperties>
</file>